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57D6-AAEA-40AD-B77A-45E7FF1CF49C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Person with building and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2888-EE41-4083-8C30-B24184967FB4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5FAB-2AA7-4F1A-A8DF-3434AF24377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813-E9B2-4557-A39A-DA0E296C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67F-C0A1-4878-B8B6-59A717DF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0781-A1E3-454F-9285-6DE0920F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15F-4D41-4965-9625-0A6C7047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D55-F2D0-41A4-99A6-FAE831DA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178-C35C-4538-A294-5C8542D9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C36-53FA-418B-8631-1CB27E8B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C84-DA2F-4EB8-9D29-A9B21080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076-26FD-4CA9-A4E7-E4F1ED68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1D1-C974-4B67-B620-86942637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E36-03D7-4085-876D-F2BA1720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380-6C99-4F39-94F2-75E937EC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8ED4-89F6-4768-AC04-0A8F6AF785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inerg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irtual GPS tour of central Dune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on diagram.jpg"/>
          <p:cNvPicPr/>
          <p:nvPr/>
        </p:nvPicPr>
        <p:blipFill>
          <a:blip r:embed="rId1"/>
          <a:stretch/>
        </p:blipFill>
        <p:spPr>
          <a:xfrm>
            <a:off x="857160" y="500040"/>
            <a:ext cx="7143840" cy="5857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116000" y="333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onceptual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45360" cy="5397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900000" y="26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26920" y="404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in the Second Iteration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84360" y="1989000"/>
            <a:ext cx="28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king tour o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untitled"/>
          <p:cNvPicPr/>
          <p:nvPr/>
        </p:nvPicPr>
        <p:blipFill>
          <a:blip r:embed="rId1"/>
          <a:stretch/>
        </p:blipFill>
        <p:spPr>
          <a:xfrm>
            <a:off x="4643280" y="1484280"/>
            <a:ext cx="2891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76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being left for the third it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1700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ftware to be able to add new t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95280" y="40464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ime Line from now until second iteration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2349360"/>
            <a:ext cx="388764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Map on PDA, Class desig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Form design, Create a hard coded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xml file,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3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Read GPS co-ordinates from PD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4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PDA reading from xml fi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572000" y="2349360"/>
            <a:ext cx="36720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5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Render waypoints on m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6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aypoints information,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7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Linking waypoints,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eek 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Final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1:03:54Z</dcterms:created>
  <dc:creator>default-user</dc:creator>
  <dc:description/>
  <dc:language>en-US</dc:language>
  <cp:lastModifiedBy>Default-User</cp:lastModifiedBy>
  <dcterms:modified xsi:type="dcterms:W3CDTF">2009-04-27T23:20:53Z</dcterms:modified>
  <cp:revision>8</cp:revision>
  <dc:subject/>
  <dc:title>Sinergetics</dc:title>
</cp:coreProperties>
</file>